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4E35-B24B-4D1B-BA69-8F91A80B5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AD78-182A-4343-B5B1-43B4BE72B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D136-1B11-4D2E-A1B0-906227E5E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43E8-F4FF-4C04-AEB6-C6C5114D5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ADA8-5786-4782-856C-779D7DCB9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72EE-DA6D-48E7-A19E-14DE23636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08CA-46E3-40E7-B196-16E8D3302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0EC1-894A-4E4B-921A-36F513B67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7E77-24F1-4551-B55D-EE7FD1472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4708-041B-4E37-8273-90044140A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9E2C-21EB-41AC-8A70-B5ADE6231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2AB98-9B9F-4A08-9F3E-29A46C0BF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4131C-860B-4CB0-A163-F88B3E4340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7T19:08:25Z</dcterms:created>
  <dc:creator>INVES-S6600A</dc:creator>
  <dc:description/>
  <dc:language>en-US</dc:language>
  <cp:lastModifiedBy>INVES-S6600A</cp:lastModifiedBy>
  <dcterms:modified xsi:type="dcterms:W3CDTF">2010-11-17T19:08:59Z</dcterms:modified>
  <cp:revision>1</cp:revision>
  <dc:subject/>
  <dc:title>Diapositiva 1</dc:title>
</cp:coreProperties>
</file>